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94B6-8580-41E6-AFEA-54B44FACDF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CB98-6E32-464C-9C40-EA432CDD21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92EE-22F1-447D-9C88-C34049D829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09EE-6119-4502-9C15-8D37208190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EF72-07B6-4DFB-8C22-0F90A3E350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4EC6-2456-4B88-87DC-328E4CF0EC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5DC3-E1CC-4051-8A04-EFD1A345EE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580D-C36F-4C8F-968A-0BD1A3F133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32EF-9A39-480D-A5D2-EB5B84520B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5C9C-01EC-46A2-A552-CD772DEFD1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2B54-C3A0-4159-B0D5-7165147E68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ABC3-1FB2-4B45-901C-77472FACBE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1FE8-6907-4F18-8120-CA65353187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7C48-7279-45BF-8444-48648F5F61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CD09-7E7A-4CD8-BDB8-F92EB4B635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A5DC-A37F-490A-9494-1D6BEDFED5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404D-CFA3-447F-8CFE-B64C5902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2FE9-85EA-4186-8B08-D137E206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DCB-9F86-4CFF-9F9D-5B8291A8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A5AA-2FF1-43D8-B4B9-0A53D951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253B-10EC-408A-887F-0A68D51D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E1EC-2731-49C2-9841-4585FD08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DE7E-8C00-4B8C-BDFD-D4C4B9B1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4AE6-773E-4336-90D4-48674007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76DC-CE17-43DB-84AB-B16C4D69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9C73-8E34-4F5E-9FE9-B3105D11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13AA-61A6-4095-9674-99B804DC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D997-687C-4433-8E18-F07C131A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351A-D2AF-4474-9EF6-AB245C33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D00A-F4DC-4502-9509-BC6D9073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63D4-7880-4F41-A3A2-9C70F060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8E60-3D9B-4492-855B-6D5DCAFE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53E8-1B74-4659-A9FF-B1239FD8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282-32BA-434D-ACC8-B995BCC5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D260-011F-470F-ABD6-38AD32A4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7189-CDC2-4A44-9A45-B9423B63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5C40-1723-4510-952A-39DF410C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F25-5C8A-4BDE-ABE1-292C17F5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D61A-848E-4C57-A612-1AFA71B9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C07C-94A7-430C-99A9-F74EE9D5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Picture 4" descr="CITBANND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F3A6-EB99-40B8-A5D7-0E7405006D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3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Picture 5" descr="CITBANND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6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8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Group 9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10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Oval 11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Oval 12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Oval 13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2476-5E94-4C53-AA48-143C40B6CF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rançais 3 – Unité 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n appéti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çon A – Au supermarch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s ali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33920" y="2285640"/>
            <a:ext cx="5410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1: Je dois achet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2: D’abord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suite, tu dois aller à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fin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09480" y="2438280"/>
            <a:ext cx="3200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escargo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un poul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religieu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évisons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57600" y="2285640"/>
            <a:ext cx="5486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1: Je dois achet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2: D’abord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charcut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suite, tu dois aller à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pâtiss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fin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poissonn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609480" y="2438280"/>
            <a:ext cx="29718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u pâ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une tar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u pois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9520" y="2285640"/>
            <a:ext cx="5334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1: Je dois achet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2: D’abord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pâtiss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suite, tu dois aller à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poissonn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fin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crém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09480" y="2438280"/>
            <a:ext cx="3200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millefeuil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huît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u beur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733920" y="2285640"/>
            <a:ext cx="5410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1: Je dois achet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2: D’abord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crém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suite, tu dois aller à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boulang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fin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charcut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609480" y="2438280"/>
            <a:ext cx="3200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u from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croiss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sauciss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9520" y="2285640"/>
            <a:ext cx="5334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1: Je dois achet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2: D’abord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bouch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suite, tu dois aller à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charcut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fin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crém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609480" y="2438280"/>
            <a:ext cx="3200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un rôti de bœu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u jamb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u la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733920" y="2285640"/>
            <a:ext cx="5410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1: Je dois achet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2: D’abord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poissonn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suite, tu dois aller à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bouch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fin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pâtiss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609480" y="2438280"/>
            <a:ext cx="3200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escargo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un poul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religieu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Express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’abord, tu dois all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nsuite, tu dois all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nfin, tu dois all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Contexte / Tâch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Votre mère vous a donné une liste de choses à ache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ais, vous ne savez pas où il faut aller pour les ache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lors, lisez votre liste à votre partenai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(Une personne se mettra le dos à l’écran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l/Elle va vous dire où il faut aller et en quel ord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Modèle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62160" y="2285640"/>
            <a:ext cx="4647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1: Je dois acheter des baguettes, un biftek et des œuf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2: D’abord, tu dois aller à la boulangerie. Ensuite, tu dois aller à la boucherie. Enfin, tu dois aller à la crém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09480" y="2438280"/>
            <a:ext cx="29718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baquet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un bift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oeu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57600" y="2285640"/>
            <a:ext cx="5486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1: Je dois achet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2: D’abord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suite, tu dois aller à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fin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09480" y="2438280"/>
            <a:ext cx="29718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u pâ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une tar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u pois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9520" y="2285640"/>
            <a:ext cx="5334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1: Je dois achet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2: D’abord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suite, tu dois aller à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fin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609480" y="2438280"/>
            <a:ext cx="3200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millefeuil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huît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u beur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CHANGEZ DE RÔLE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33920" y="2285640"/>
            <a:ext cx="5410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1: Je dois achet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2: D’abord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suite, tu dois aller à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fin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09480" y="2438280"/>
            <a:ext cx="3200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u from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croiss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sauciss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9520" y="2285640"/>
            <a:ext cx="5334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1: Je dois achet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2: D’abord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suite, tu dois aller à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fin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609480" y="2438280"/>
            <a:ext cx="3200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un rôti de bœu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u jamb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u la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À vous de choisir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4-01-06T18:42:59Z</dcterms:modified>
  <cp:revision>91</cp:revision>
  <dc:subject/>
  <dc:title>Allez, viens! – Level 2</dc:title>
</cp:coreProperties>
</file>